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2DD2-DA47-4C07-BE89-A988E0EDF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8411-4E2C-460D-8D98-B719E03DE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25D1-5DAE-457E-884A-9487457B1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58D5-E27A-4188-8986-BC3F4883C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26F4-1B79-44A1-8594-80CC55398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C99A-0971-4C56-BC29-16404E9A4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83BD-BE79-4B45-B1EF-7EA97DD9B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A7E5-32B2-4510-9F1C-7E7F36BF11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8ABD-64A2-4878-BCE3-EDEB387005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2616-D97A-4A10-98D0-C75925A8F8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41D6-6F4E-4980-8D98-142A6B19F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2E09-3C7E-4F98-9859-129A19E7A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24D4-6912-46BE-893C-71A57022F0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A273-51CF-45A6-A414-6EFC68071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B4A0-F4B2-4DBC-B506-99A10C6328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F171-D77F-44D5-8C35-F671412895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A905-4EB3-4DB8-98B4-472175CFF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F3F9-5FD4-49F6-B726-B0B641A37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C033-FACB-453C-8591-BE698369C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99A1-1719-495B-BBA4-3558A1833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3567-ADC4-42BE-9903-80361E3D2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5062-963B-4285-BA9D-830A21D5A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8819-A961-4832-8F28-6AE467496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0EE8-0DB7-40D6-98B9-53480BE9E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84AA-F735-451B-B118-8084EC46E9DD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31E-776E-4A24-BE59-5043C8B83302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135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do we get flood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5157720"/>
            <a:ext cx="6147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ere did all the water come from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95480" y="1782720"/>
            <a:ext cx="5153040" cy="32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BA28-0A9C-46CF-A3C6-CE74143D82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at’s righ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there is not enough room in the river, then the water overflows the bank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what is the most usual reason why this happens – what event can occur to make the water in the river overflow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74ED-CF6C-4330-923D-8F6D24187F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ight again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vy rain is the most usual event that happens right before a river floods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not all the rain that floods out of the river, fell in it from the sky in the first plac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ost of the water in the river came from the land either side and flowed into the rive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4149720"/>
            <a:ext cx="3240360" cy="1511280"/>
          </a:xfrm>
          <a:prstGeom prst="cloudCallout">
            <a:avLst>
              <a:gd name="adj1" fmla="val -37504"/>
              <a:gd name="adj2" fmla="val 6995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at kind of rivers flood the most easi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401004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8FDA-61C6-4B93-8EA5-642EAB21E2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It is not really the rivers it is what goes on around them that matter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emember most of the water lands on the sides of the riv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ow much of this ends up in the river depends on a number of thing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10920" y="5516280"/>
            <a:ext cx="8281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0" t="13643" r="0" b="10756"/>
          <a:stretch/>
        </p:blipFill>
        <p:spPr>
          <a:xfrm>
            <a:off x="684360" y="2421000"/>
            <a:ext cx="2581200" cy="79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teep or flatter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635280" y="2276640"/>
            <a:ext cx="1224000" cy="93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076720" y="2276640"/>
            <a:ext cx="1122480" cy="1152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492360" y="357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rassy or wooded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588000" y="2205000"/>
            <a:ext cx="1078200" cy="100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7812000" y="2205000"/>
            <a:ext cx="1117800" cy="1117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22764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cent weather: sunshine or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11A0-CA71-4A2F-B210-9D9181E4B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52:10Z</dcterms:created>
  <dc:creator>Lindy</dc:creator>
  <dc:description/>
  <dc:language>en-US</dc:language>
  <cp:lastModifiedBy>Lindy</cp:lastModifiedBy>
  <dcterms:modified xsi:type="dcterms:W3CDTF">2009-02-08T11:26:00Z</dcterms:modified>
  <cp:revision>3</cp:revision>
  <dc:subject/>
  <dc:title>Why do we get flood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